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42A-E32E-47A2-87B9-5B31B254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FE0-8C49-4947-B8C9-7C3C6B8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BA9-5FD8-4B79-895E-9DDBB3C5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3C9-35EB-4182-9DEB-AC08CA05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8D677-0651-405A-B13F-E2F7A11B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E3B36-9775-44D4-9A6D-787A7D81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01462-9A24-45A7-8F69-2F6C6E69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B934F-756C-4AD2-A6DF-5F6F50C4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707F9-BED3-44FC-9510-0775C991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BC406-7239-47B2-BF4C-F3F9A6B9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B6523-4808-470A-AB06-722321CB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5D0-9A2C-4BCC-B998-C63591B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4301-CB04-4526-AD0E-40DE9BB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BE98-D9D8-44B0-B234-4BA84CD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EB1B8-83A1-4663-8784-172291E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FF7A-7685-45E1-9BE4-D99F6BCD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D0A49-B574-46A5-959C-DEE3468B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D81-9B06-4AF0-85AF-0F61380B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C28-F0CC-4CD3-9D76-039FD44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CED-473A-4C94-8965-E6FE3DB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7CC-46B1-4786-90C5-D08D690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6DB-66C7-4531-81E1-A6C95395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06D-7067-49FF-A9FE-69F59F2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098-83A2-4320-9D5C-7D5F879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09B-1EE9-4336-9C55-C8B929D6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00A6-4801-42F0-8587-F773D0EFA8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me.planet.nl/~onielsen/cam/moon-2003feb05-120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ehead.unc.edu/Shows/EMS/image%20pages/crecent%20moon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0h5moo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4h6moon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18h9moon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22h10moon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rgazing.net/david/moon/day28h2m24moon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hases of the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moonphases_1"/>
          <p:cNvPicPr/>
          <p:nvPr/>
        </p:nvPicPr>
        <p:blipFill>
          <a:blip r:embed="rId1"/>
          <a:stretch/>
        </p:blipFill>
        <p:spPr>
          <a:xfrm>
            <a:off x="2124000" y="1627200"/>
            <a:ext cx="50403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ost importantly of all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Tahoma"/>
              </a:rPr>
              <a:t>It takes 28 days for the moon to orbit the Earth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unar Ecli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laun"/>
          <p:cNvPicPr/>
          <p:nvPr/>
        </p:nvPicPr>
        <p:blipFill>
          <a:blip r:embed="rId1"/>
          <a:stretch/>
        </p:blipFill>
        <p:spPr>
          <a:xfrm>
            <a:off x="1547640" y="1574640"/>
            <a:ext cx="59770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d Moon 21 January 20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moon"/>
          <p:cNvPicPr/>
          <p:nvPr/>
        </p:nvPicPr>
        <p:blipFill>
          <a:blip r:embed="rId1"/>
          <a:stretch/>
        </p:blipFill>
        <p:spPr>
          <a:xfrm>
            <a:off x="1332000" y="1844640"/>
            <a:ext cx="66247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16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Apollo 11 liftoff"/>
          <p:cNvPicPr/>
          <p:nvPr/>
        </p:nvPicPr>
        <p:blipFill>
          <a:blip r:embed="rId1"/>
          <a:stretch/>
        </p:blipFill>
        <p:spPr>
          <a:xfrm>
            <a:off x="2627280" y="1844640"/>
            <a:ext cx="3424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Planet Earth 19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Earth from Apollo 11"/>
          <p:cNvPicPr/>
          <p:nvPr/>
        </p:nvPicPr>
        <p:blipFill>
          <a:blip r:embed="rId1"/>
          <a:stretch/>
        </p:blipFill>
        <p:spPr>
          <a:xfrm>
            <a:off x="2340000" y="1608120"/>
            <a:ext cx="3816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 Earth rising 20/7/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Earthrise"/>
          <p:cNvPicPr/>
          <p:nvPr/>
        </p:nvPicPr>
        <p:blipFill>
          <a:blip r:embed="rId1"/>
          <a:stretch/>
        </p:blipFill>
        <p:spPr>
          <a:xfrm>
            <a:off x="2268360" y="1776240"/>
            <a:ext cx="36720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one small step for man…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TV image of Armstrong stepping on the Moon"/>
          <p:cNvPicPr/>
          <p:nvPr/>
        </p:nvPicPr>
        <p:blipFill>
          <a:blip r:embed="rId1"/>
          <a:stretch/>
        </p:blipFill>
        <p:spPr>
          <a:xfrm>
            <a:off x="1692360" y="1903320"/>
            <a:ext cx="482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Aldrin reflection picture"/>
          <p:cNvPicPr/>
          <p:nvPr/>
        </p:nvPicPr>
        <p:blipFill>
          <a:blip r:embed="rId1"/>
          <a:stretch/>
        </p:blipFill>
        <p:spPr>
          <a:xfrm>
            <a:off x="1785960" y="260280"/>
            <a:ext cx="5354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1828800" y="190512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xing Cresc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Waxing crescent Moon 5 Feb 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55592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irst Qu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crecent%20moon%20sm%20black%20and%20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30480" y="1413000"/>
            <a:ext cx="2809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xing Gibb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0" descr="10 Days 5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5264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14 Days 6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70028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ning Gibbo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18 Days 9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41300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Last Quar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22 Days 10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954080"/>
            <a:ext cx="388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ning Cresc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28 Days 2 Hours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5:16:47Z</dcterms:created>
  <dc:creator>Valued Acer Custopmer</dc:creator>
  <dc:description/>
  <dc:language>en-US</dc:language>
  <cp:lastModifiedBy>acer</cp:lastModifiedBy>
  <dcterms:modified xsi:type="dcterms:W3CDTF">2009-11-27T17:17:09Z</dcterms:modified>
  <cp:revision>8</cp:revision>
  <dc:subject/>
  <dc:title>Phases of the Moon</dc:title>
</cp:coreProperties>
</file>